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3E3-E925-459D-9510-D6D7D81E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1E4-0BED-4EFB-9D67-0DA4B47D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FAE-7CBC-4223-8F31-97D764F8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590-BB31-4B73-BED9-E0B00B6D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21D-03F9-4090-88E9-858F85E9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75A-75DA-44C0-8679-AF1F4A13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A98-D2FD-42A1-B648-73BD0331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113-A152-4B7F-9468-3475F61A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99D-0BE2-4A78-A9A8-D61E742D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0D0-D6DB-4CF8-837E-4F8A2B0D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E29-93E6-485F-982A-73C4C34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C28-CC20-4815-B222-EBC0ACC0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82E3-A720-4705-8D74-8EC72B0A5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La fecha es el 21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192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20B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ntos jugadores hay en un equipo de futbol?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tos tiempos hay en un partido de futbol?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empatan los equipos?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mismo ta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-2114640" y="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523880" y="39625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ad! Im so sor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581280" y="4952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29200" y="56498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think of the te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1447920" y="64119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the team is fantastic. It always w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p. 3; en voz alt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1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0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981080" y="2844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2"/>
          <p:cNvSpPr/>
          <p:nvPr/>
        </p:nvSpPr>
        <p:spPr>
          <a:xfrm>
            <a:off x="7467480" y="4191120"/>
            <a:ext cx="76212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5"/>
          <p:cNvSpPr/>
          <p:nvPr/>
        </p:nvSpPr>
        <p:spPr>
          <a:xfrm>
            <a:off x="7162920" y="5181480"/>
            <a:ext cx="7617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6"/>
          <p:cNvCxnSpPr/>
          <p:nvPr/>
        </p:nvCxnSpPr>
        <p:spPr>
          <a:xfrm flipH="1">
            <a:off x="7619400" y="4114440"/>
            <a:ext cx="533880" cy="16772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47" name="TextBox 12"/>
          <p:cNvSpPr/>
          <p:nvPr/>
        </p:nvSpPr>
        <p:spPr>
          <a:xfrm>
            <a:off x="6400800" y="5526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 able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3"/>
          <p:cNvSpPr/>
          <p:nvPr/>
        </p:nvSpPr>
        <p:spPr>
          <a:xfrm>
            <a:off x="7924680" y="4800600"/>
            <a:ext cx="685800" cy="4572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6172200" y="419112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6"/>
          <p:cNvCxnSpPr>
            <a:stCxn id="49" idx="2"/>
          </p:cNvCxnSpPr>
          <p:nvPr/>
        </p:nvCxnSpPr>
        <p:spPr>
          <a:xfrm flipH="1">
            <a:off x="5790960" y="4419360"/>
            <a:ext cx="381600" cy="114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Straight Arrow Connector 19"/>
          <p:cNvCxnSpPr>
            <a:stCxn id="48" idx="5"/>
          </p:cNvCxnSpPr>
          <p:nvPr/>
        </p:nvCxnSpPr>
        <p:spPr>
          <a:xfrm>
            <a:off x="8510400" y="5191200"/>
            <a:ext cx="176760" cy="335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2" name="TextBox 22"/>
          <p:cNvSpPr/>
          <p:nvPr/>
        </p:nvSpPr>
        <p:spPr>
          <a:xfrm>
            <a:off x="7772400" y="541008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o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o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4495680" y="4267080"/>
            <a:ext cx="133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th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www.football-bible.com/images/image/referee.png"/>
          <p:cNvPicPr/>
          <p:nvPr/>
        </p:nvPicPr>
        <p:blipFill>
          <a:blip r:embed="rId2"/>
          <a:stretch/>
        </p:blipFill>
        <p:spPr>
          <a:xfrm>
            <a:off x="3886200" y="552600"/>
            <a:ext cx="1587600" cy="142848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25"/>
          <p:cNvCxnSpPr/>
          <p:nvPr/>
        </p:nvCxnSpPr>
        <p:spPr>
          <a:xfrm flipV="1">
            <a:off x="5162040" y="1066320"/>
            <a:ext cx="146772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TextBox 27"/>
          <p:cNvSpPr/>
          <p:nvPr/>
        </p:nvSpPr>
        <p:spPr>
          <a:xfrm>
            <a:off x="6705720" y="9144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/ La arbi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-1905120" y="34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Straight Connector 2"/>
          <p:cNvSpPr/>
          <p:nvPr/>
        </p:nvSpPr>
        <p:spPr>
          <a:xfrm>
            <a:off x="6095880" y="4038480"/>
            <a:ext cx="1067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4"/>
          <p:cNvCxnSpPr/>
          <p:nvPr/>
        </p:nvCxnSpPr>
        <p:spPr>
          <a:xfrm flipV="1">
            <a:off x="7086240" y="3504600"/>
            <a:ext cx="1080" cy="533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0" name="Straight Connector 6"/>
          <p:cNvSpPr/>
          <p:nvPr/>
        </p:nvSpPr>
        <p:spPr>
          <a:xfrm>
            <a:off x="5029200" y="4724280"/>
            <a:ext cx="990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8"/>
          <p:cNvCxnSpPr/>
          <p:nvPr/>
        </p:nvCxnSpPr>
        <p:spPr>
          <a:xfrm>
            <a:off x="5029200" y="4724280"/>
            <a:ext cx="381600" cy="4579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2" name="TextBox 10"/>
          <p:cNvSpPr/>
          <p:nvPr/>
        </p:nvSpPr>
        <p:spPr>
          <a:xfrm>
            <a:off x="6896160" y="32004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mpe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5181480" y="49165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-1676520" y="64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-1828800" y="792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2"/>
          <p:cNvSpPr/>
          <p:nvPr/>
        </p:nvSpPr>
        <p:spPr>
          <a:xfrm>
            <a:off x="7848720" y="4724280"/>
            <a:ext cx="9144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5"/>
          <p:cNvCxnSpPr/>
          <p:nvPr/>
        </p:nvCxnSpPr>
        <p:spPr>
          <a:xfrm flipH="1">
            <a:off x="8076960" y="4724280"/>
            <a:ext cx="38160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8" name="TextBox 8"/>
          <p:cNvSpPr/>
          <p:nvPr/>
        </p:nvSpPr>
        <p:spPr>
          <a:xfrm>
            <a:off x="6896160" y="49752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e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l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2124000" y="-304920"/>
            <a:ext cx="13611240" cy="7653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1"/>
          <p:cNvSpPr/>
          <p:nvPr/>
        </p:nvSpPr>
        <p:spPr>
          <a:xfrm>
            <a:off x="3767040" y="685800"/>
            <a:ext cx="25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l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2209680" y="1459080"/>
            <a:ext cx="2133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-2057400" y="-76320"/>
            <a:ext cx="13282560" cy="746784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8229600" y="3124080"/>
            <a:ext cx="6858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8153280" y="3581280"/>
            <a:ext cx="1067040" cy="38124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4"/>
          <p:cNvCxnSpPr>
            <a:stCxn id="73" idx="0"/>
          </p:cNvCxnSpPr>
          <p:nvPr/>
        </p:nvCxnSpPr>
        <p:spPr>
          <a:xfrm flipH="1" flipV="1">
            <a:off x="8305560" y="2666520"/>
            <a:ext cx="2671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Straight Arrow Connector 8"/>
          <p:cNvCxnSpPr/>
          <p:nvPr/>
        </p:nvCxnSpPr>
        <p:spPr>
          <a:xfrm flipH="1">
            <a:off x="8571960" y="3962520"/>
            <a:ext cx="114840" cy="457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7" name="TextBox 11"/>
          <p:cNvSpPr/>
          <p:nvPr/>
        </p:nvSpPr>
        <p:spPr>
          <a:xfrm>
            <a:off x="4583160" y="533520"/>
            <a:ext cx="410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Algunos colo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228600" y="1523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2133720" y="21337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3962520" y="144792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4724280" y="259092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g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5029200" y="41148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3711600" y="4419720"/>
            <a:ext cx="990720" cy="368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2303640" y="40384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1"/>
          <p:cNvSpPr/>
          <p:nvPr/>
        </p:nvSpPr>
        <p:spPr>
          <a:xfrm>
            <a:off x="1981080" y="49528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2"/>
          <p:cNvSpPr/>
          <p:nvPr/>
        </p:nvSpPr>
        <p:spPr>
          <a:xfrm>
            <a:off x="914400" y="480060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3"/>
          <p:cNvSpPr/>
          <p:nvPr/>
        </p:nvSpPr>
        <p:spPr>
          <a:xfrm>
            <a:off x="60480" y="352116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6320" y="60278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uniforms, colors are adjectives.  Therefore, they must agree in gender and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5743440" y="1263600"/>
            <a:ext cx="134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6765840" y="12762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light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8"/>
          <p:cNvSpPr/>
          <p:nvPr/>
        </p:nvSpPr>
        <p:spPr>
          <a:xfrm>
            <a:off x="77724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9"/>
          <p:cNvSpPr/>
          <p:nvPr/>
        </p:nvSpPr>
        <p:spPr>
          <a:xfrm>
            <a:off x="82296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ttp://sports.inquirer.net/files/2014/07/james-rodriguez.jpg"/>
          <p:cNvPicPr/>
          <p:nvPr/>
        </p:nvPicPr>
        <p:blipFill>
          <a:blip r:embed="rId1"/>
          <a:stretch/>
        </p:blipFill>
        <p:spPr>
          <a:xfrm>
            <a:off x="-830160" y="762120"/>
            <a:ext cx="5325840" cy="32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ttp://www.experts-du-sport.be/wp-content/uploads/2014/06/neymar.jpg"/>
          <p:cNvPicPr/>
          <p:nvPr/>
        </p:nvPicPr>
        <p:blipFill>
          <a:blip r:embed="rId2"/>
          <a:stretch/>
        </p:blipFill>
        <p:spPr>
          <a:xfrm>
            <a:off x="6477120" y="762120"/>
            <a:ext cx="3808440" cy="3247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Que tiene el uniforme del equipo d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76320" y="401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omb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2438280" y="4038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rgent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http://ea-cdn.voxmedia.com/production/sbnation-world-cup-preview-2014/images/teams/group-d/costarica-player-1-51ddeb24.jpg"/>
          <p:cNvPicPr/>
          <p:nvPr/>
        </p:nvPicPr>
        <p:blipFill>
          <a:blip r:embed="rId3"/>
          <a:stretch/>
        </p:blipFill>
        <p:spPr>
          <a:xfrm>
            <a:off x="3809880" y="762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ttp://www.footballkitnews.com/wp-content/uploads/2013/11/Lionel-Messi-Argentina-2014-Kit.jpg"/>
          <p:cNvPicPr/>
          <p:nvPr/>
        </p:nvPicPr>
        <p:blipFill>
          <a:blip r:embed="rId4"/>
          <a:stretch/>
        </p:blipFill>
        <p:spPr>
          <a:xfrm>
            <a:off x="1981080" y="762120"/>
            <a:ext cx="2438640" cy="3276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648320" y="401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osta R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7391520" y="4038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Brazi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68400" y="4476600"/>
            <a:ext cx="907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 uniforme de Colombia tiene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6320" y="4952880"/>
            <a:ext cx="907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El uniforme de Argentina  tiene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76320" y="5562720"/>
            <a:ext cx="907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l uniforme de Costa Rica  tie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76320" y="6172200"/>
            <a:ext cx="907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El uniforme de Brazil  tien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1905120" y="0"/>
            <a:ext cx="1341756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4-10-21T14:51:19Z</dcterms:modified>
  <cp:revision>47</cp:revision>
  <dc:subject/>
  <dc:title>Me llamo _________        Clase 7 IM La fecha es el 4 de noviembre del 2010</dc:title>
</cp:coreProperties>
</file>